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1E22-0FDE-490C-9ECF-0FC1386D7B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715A-9327-485A-B2C5-BA7044B35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9F0-A9E5-41AB-8B9A-56243F42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DB1-55A9-41AA-AA43-06BE4953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1A3-C85E-4011-833B-2452896F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9BF-27CC-490D-BC09-DFD6E530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BFBF-732D-4138-BF26-0D4680E5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6993-3776-4CED-BBFF-1BDB8BB6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D489-F015-4BAA-92D4-42F514B3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14AC-4EC3-4215-9C43-4197885C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7B6C-7C5D-4E7E-B484-3E5E2960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F9BF-EF1F-4E6B-942D-020BD55E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1AD0-FE52-4EDE-8392-A7CE9FF9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4C8-F2FB-4A1C-8513-FF65248A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0ACF-B495-45ED-9623-AA12FF6E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701A-D48F-49A5-BFE4-BCAFC6DD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ED8B-E5CE-41E4-8B51-90553542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20E5-2F69-4D07-A21E-95269E6E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02AE-6EFE-4EF3-8143-770B6E08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5BF2-E3C8-49D7-8FE8-F6648DF8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6E09-6671-482A-9D2B-43A78D2F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D01E-26E0-47F7-A85A-B94D275D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A2A0-C079-475E-B59B-CED1C8DC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6BF9-93EE-46D8-A2AC-0377B68E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6B2-52D9-4ADE-B1C9-62137429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1BE7-A8A8-43BC-BEC5-730C49AD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28701-2631-432A-8CBF-578E805B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6101-C89B-42A6-87A1-564402C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69CF-1E8C-48E6-8607-240C860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C2BE-C3F2-494E-9247-61FDE61B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0F94-D120-4B8E-84B9-F06F7FC4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62936-3BC5-4EC8-BE4A-8F80C281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0597-15F4-4FE2-BE8D-98F6DAA0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3678-1523-4578-8969-FA458F17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F6761-0F9C-49AD-AA93-48856236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D6B-A7D1-4CF3-950D-4446DCFD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85FF5-8667-430C-BD83-D360B1E7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D09D-D19A-4FCE-A61F-6933DAF9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951B-D6C7-45DE-902E-FFEFB34A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EC69-E84A-4C71-9C8E-3DF24884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91145-2C24-43C5-AAD9-64396E0A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CBAEC-26D1-4E0E-8D34-BE79526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30B37-0A89-430C-B5C9-49DB9537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19A1-0030-430E-B00B-D65D3761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F3640-C2CA-4A0E-95AE-E496486D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585-C948-48F1-9156-61E929E1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BDC-3290-4D17-B165-80554F08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98F-1330-4A0C-BE13-FE694C38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FE7-F07C-49A5-9A05-9C54B761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8B3-4592-445D-B77F-336A8D50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ECCF-5613-4D28-A9EC-EF7A0A49EE2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8936-8046-48D3-A838-3F9471ECD2EE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6BDE-EFE5-4D9B-A7D2-EDCB5884CA3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7EE0-103F-4CD6-B459-27BA03DCEA0A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AF67-4984-4319-B740-DACBCE707CF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4EA6-D7E1-4CEF-B286-A72FF75B281C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9594-5FAD-46CF-A7B9-F111AE992F0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C44E-B51E-455B-9B2B-DDA8256070E0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5fcbe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Разработка стратегии на корпоративном у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роста через диверсификацию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лагает выход за рамки отраслевой технологической цепочки, используя возможности, открывающиеся вне зоны традиционн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но принципу слияния существует связанная и несвязанная диверсификац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иверсификация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2071440"/>
            <a:ext cx="40402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сути является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интеграцией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горизонтальной или вертикальной), т.е. основывается на присоединении к предприятию новых видов деятельности на стадиях до или после производства основного продук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3280" y="142848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Не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4720" y="207144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хватывает такие направления деятельности, которые не имеют прямой непосредственной связи с основной деятельностью предприят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центрированной диверсификации 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конгломератной диверсификации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и сокращ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Ликвидац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иболее радикальный вариант сокращения, связанный с полной распродажей материальных запасов и активов фирм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родажа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е, для которой данная сфера бизнеса может представлять интере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е и переориент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именяются, когда есть необходимость в сокращении фирмой части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езинтегр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едусматривает отказ фирмы от определенных производственных цепочек и переход на внешние сдел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Матрица «товар-рынок»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319960" cy="42145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 корпоратив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интенсив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интегр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диверсифк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Типы корпоративных стратегий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табиль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осредоточена на существующих направ­лениях деятельности организации и сохранении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ост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редусматривает превышение уровня развития фирмы над предыдущим период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о сути, стратегия отступления, которая предусматривает установление уровня целей организации ниже достигнутого в прошл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ерево общих стратегий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6858000" cy="52862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Интенсивный рост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125360"/>
            <a:ext cx="7358040" cy="558828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680724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интеграционного рос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вязана с возможностями объединения с другими элементами отрас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целью является рост в пределах индустриальной технологической цепочк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авдана, когда нет возможности роста по отношению к базовому рынк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ертикальная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ол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частич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горизонтальна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Вертик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7599240" cy="1622520"/>
          </a:xfrm>
          <a:prstGeom prst="rect">
            <a:avLst/>
          </a:prstGeom>
          <a:ln w="0">
            <a:noFill/>
          </a:ln>
        </p:spPr>
      </p:pic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Горизонт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следует цель усиления позиции фирмы путем поглощения или слияния с однопрофильными организац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иболее существенным при данном способе роста является достижение положительной синерг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инер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стратегические преимущества, которые возникают при соединении двух и более орга­низаций в рамках единой структу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Источники синергетического эффек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операционных расход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финансовых риск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эффективности менеджмен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ение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прибыли в денежном выра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потребности в инвестиция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1:05:37Z</dcterms:created>
  <dc:creator>И.В.</dc:creator>
  <dc:description/>
  <dc:language>en-US</dc:language>
  <cp:lastModifiedBy>Толя</cp:lastModifiedBy>
  <dcterms:modified xsi:type="dcterms:W3CDTF">2014-12-01T07:00:06Z</dcterms:modified>
  <cp:revision>12</cp:revision>
  <dc:subject/>
  <dc:title>Разработка стратегии на корпоративном уровне</dc:title>
</cp:coreProperties>
</file>